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DF3-078C-4E9B-89E5-52E71187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5E5-8110-41C0-B221-8DE08452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0A0-B807-4897-93C1-03BBB968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7CD-4312-49BE-8BDD-1AE5A1DA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898-4577-4A54-9DAF-E7650AE4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090-6F3E-4595-939B-B670803B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F2A-261C-4AFB-9BA7-4C77CAA8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495-CA3F-40EF-8431-3AB83976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88B7-1FDC-46AC-A6DC-1C51A6F9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09C-D725-4876-A6DD-471B0329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FDE-BD2F-479C-A62C-B882C524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2DE-76FC-4B6A-B8C1-F66F76B6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525F6-8673-49F0-96CF-5CD346AF9D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19640" y="539640"/>
            <a:ext cx="3060360" cy="612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80000" y="539640"/>
            <a:ext cx="3240360" cy="612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9640" y="360360"/>
            <a:ext cx="324036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ff0000"/>
                </a:solidFill>
                <a:latin typeface="Arial"/>
              </a:rPr>
              <a:t>Transporte Terrestr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cccc"/>
                </a:solidFill>
                <a:latin typeface="Arial"/>
              </a:rPr>
              <a:t>Transporte Aére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5c8526"/>
                </a:solidFill>
                <a:latin typeface="Arial"/>
              </a:rPr>
              <a:t>Transporte Aquátic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9640" y="485928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4859280"/>
            <a:ext cx="2880000" cy="234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60720" y="2998800"/>
            <a:ext cx="3325680" cy="1862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4400" y="755640"/>
            <a:ext cx="7996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pt-BR" sz="2000" spc="-1" strike="noStrike" u="sng">
                <a:solidFill>
                  <a:srgbClr val="0047ff"/>
                </a:solidFill>
                <a:uFillTx/>
                <a:latin typeface="Arial"/>
              </a:rPr>
              <a:t>Transportes Aquáticos: transporte de mercadorias 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0047ff"/>
                </a:solidFill>
                <a:uFillTx/>
                <a:latin typeface="Arial"/>
              </a:rPr>
              <a:t>passageiros por barcos,navios ou balsas, via um corpo de águ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0047ff"/>
                </a:solidFill>
                <a:uFillTx/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0047ff"/>
                </a:solidFill>
                <a:uFillTx/>
                <a:latin typeface="Arial"/>
              </a:rPr>
              <a:t>tais como oceanos, mares, lag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0047ff"/>
                </a:solidFill>
                <a:uFillTx/>
                <a:latin typeface="Arial"/>
              </a:rPr>
              <a:t>rios ou canai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79640" y="3890880"/>
            <a:ext cx="2879640" cy="1149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0720" y="5751360"/>
            <a:ext cx="541980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400720" y="3240000"/>
            <a:ext cx="34830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327800" y="5167440"/>
            <a:ext cx="2032200" cy="2031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720720"/>
            <a:ext cx="882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dc2300"/>
                </a:solidFill>
                <a:latin typeface="Arial"/>
              </a:rPr>
              <a:t>O Transporte aéreo é o movimento de pessoas e mercadorias pelo ar com a utilização de aviões ou helicópter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9640" y="4859280"/>
            <a:ext cx="2340000" cy="216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00720" y="2879640"/>
            <a:ext cx="2519280" cy="197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079640" y="1800360"/>
            <a:ext cx="2700360" cy="251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020000" y="5940360"/>
            <a:ext cx="2239920" cy="144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360360"/>
            <a:ext cx="953928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8000"/>
                </a:solidFill>
                <a:latin typeface="Arial"/>
              </a:rPr>
              <a:t>O transporte terrestre</a:t>
            </a:r>
            <a:r>
              <a:rPr b="1" lang="pt-BR" sz="2200" spc="-1" strike="noStrike">
                <a:solidFill>
                  <a:srgbClr val="00ae00"/>
                </a:solidFill>
                <a:latin typeface="Arial"/>
              </a:rPr>
              <a:t> é o movimento de pessoas e mercadorias por terra. Inclui o transporte rodoviário, ou seja, por rodovia, e o transporte ferroviário, por ferrov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2:42:59Z</dcterms:created>
  <dc:creator/>
  <dc:description/>
  <dc:language>en-US</dc:language>
  <cp:lastModifiedBy/>
  <cp:revision>1</cp:revision>
  <dc:subject/>
  <dc:title/>
</cp:coreProperties>
</file>